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00F-6253-41AC-8751-C7CCA3F7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CE7-F0FB-4A29-A621-B139EEE9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E04-0B35-4702-A630-522E7F8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7E4-B19B-4330-A64F-03667A30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6EC-ECD3-43C2-846A-AC8AB826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755-97C2-46B4-B612-221B365D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2F7-0C84-4AB2-8CAF-82EC5048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779-208C-4B14-B892-CD1FA30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494-1C84-4BB1-AC86-19FD1F46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EF9-FB77-4F94-87D0-5D5471C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8E4-5F34-454B-93F9-3B02223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0E5-EEC4-4559-A038-0E245E2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DAD-3034-4927-A5ED-E67B0BDA1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harles_Darwin_1854.jpg" TargetMode="External"/><Relationship Id="rId2" Type="http://schemas.openxmlformats.org/officeDocument/2006/relationships/hyperlink" Target="http://en.wikipedia.org/wiki/February_12" TargetMode="External"/><Relationship Id="rId3" Type="http://schemas.openxmlformats.org/officeDocument/2006/relationships/hyperlink" Target="http://en.wikipedia.org/wiki/1809" TargetMode="External"/><Relationship Id="rId4" Type="http://schemas.openxmlformats.org/officeDocument/2006/relationships/hyperlink" Target="http://en.wikipedia.org/wiki/April_19" TargetMode="External"/><Relationship Id="rId5" Type="http://schemas.openxmlformats.org/officeDocument/2006/relationships/hyperlink" Target="http://en.wikipedia.org/wiki/1882" TargetMode="External"/><Relationship Id="rId6" Type="http://schemas.openxmlformats.org/officeDocument/2006/relationships/hyperlink" Target="http://en.wikipedia.org/wiki/England" TargetMode="External"/><Relationship Id="rId7" Type="http://schemas.openxmlformats.org/officeDocument/2006/relationships/hyperlink" Target="http://en.wikipedia.org/wiki/Natural_history" TargetMode="External"/><Relationship Id="rId8" Type="http://schemas.openxmlformats.org/officeDocument/2006/relationships/hyperlink" Target="http://en.wikipedia.org/wiki/Species" TargetMode="External"/><Relationship Id="rId9" Type="http://schemas.openxmlformats.org/officeDocument/2006/relationships/hyperlink" Target="http://en.wikipedia.org/wiki/Evolution" TargetMode="External"/><Relationship Id="rId10" Type="http://schemas.openxmlformats.org/officeDocument/2006/relationships/hyperlink" Target="http://en.wikipedia.org/wiki/Scientific_theory" TargetMode="External"/><Relationship Id="rId11" Type="http://schemas.openxmlformats.org/officeDocument/2006/relationships/hyperlink" Target="http://en.wikipedia.org/wiki/Natural_selection" TargetMode="External"/><Relationship Id="rId12" Type="http://schemas.openxmlformats.org/officeDocument/2006/relationships/hyperlink" Target="http://en.wikipedia.org/wiki/Biology" TargetMode="External"/><Relationship Id="rId13" Type="http://schemas.openxmlformats.org/officeDocument/2006/relationships/hyperlink" Target="http://en.wikipedia.org/wiki/Medicine" TargetMode="External"/><Relationship Id="rId14" Type="http://schemas.openxmlformats.org/officeDocument/2006/relationships/hyperlink" Target="http://en.wikipedia.org/wiki/Theology" TargetMode="External"/><Relationship Id="rId15" Type="http://schemas.openxmlformats.org/officeDocument/2006/relationships/hyperlink" Target="http://en.wikipedia.org/wiki/The_Voyage_of_the_Beagle" TargetMode="External"/><Relationship Id="rId16" Type="http://schemas.openxmlformats.org/officeDocument/2006/relationships/hyperlink" Target="http://en.wikipedia.org/wiki/HMS_Beagle" TargetMode="External"/><Relationship Id="rId17" Type="http://schemas.openxmlformats.org/officeDocument/2006/relationships/hyperlink" Target="http://en.wikipedia.org/wiki/Geology" TargetMode="External"/><Relationship Id="rId18" Type="http://schemas.openxmlformats.org/officeDocument/2006/relationships/hyperlink" Target="http://en.wikipedia.org/wiki/Transmutation_of_species" TargetMode="External"/><Relationship Id="rId19" Type="http://schemas.openxmlformats.org/officeDocument/2006/relationships/hyperlink" Target="http://en.wikipedia.org/wiki/Heresy#Contemporary_heresy" TargetMode="External"/><Relationship Id="rId20" Type="http://schemas.openxmlformats.org/officeDocument/2006/relationships/hyperlink" Target="http://en.wikipedia.org/wiki/Alfred_Russel_Wallace" TargetMode="External"/><Relationship Id="rId21" Type="http://schemas.openxmlformats.org/officeDocument/2006/relationships/hyperlink" Target="http://en.wikipedia.org/wiki/Alfred_Russel_Wallace" TargetMode="External"/><Relationship Id="rId22" Type="http://schemas.openxmlformats.org/officeDocument/2006/relationships/hyperlink" Target="http://en.wikipedia.org/wiki/Alfred_Russel_Wallace" TargetMode="External"/><Relationship Id="rId23" Type="http://schemas.openxmlformats.org/officeDocument/2006/relationships/hyperlink" Target="http://en.wikipedia.org/wiki/Publication_of_Darwin%27s_theory" TargetMode="External"/><Relationship Id="rId24" Type="http://schemas.openxmlformats.org/officeDocument/2006/relationships/hyperlink" Target="http://en.wikipedia.org/wiki/The_Origin_of_Species" TargetMode="External"/><Relationship Id="rId25" Type="http://schemas.openxmlformats.org/officeDocument/2006/relationships/hyperlink" Target="http://en.wikipedia.org/wiki/Common_descent" TargetMode="External"/><Relationship Id="rId26" Type="http://schemas.openxmlformats.org/officeDocument/2006/relationships/hyperlink" Target="http://en.wikipedia.org/wiki/Fellow_of_the_Royal_Society" TargetMode="External"/><Relationship Id="rId27" Type="http://schemas.openxmlformats.org/officeDocument/2006/relationships/hyperlink" Target="http://en.wikipedia.org/wiki/The_Descent_of_Man%2C_and_Selection_in_Relation_to_Sex" TargetMode="External"/><Relationship Id="rId28" Type="http://schemas.openxmlformats.org/officeDocument/2006/relationships/hyperlink" Target="http://en.wikipedia.org/wiki/The_Expression_of_the_Emotions_in_Man_and_Animals" TargetMode="External"/><Relationship Id="rId29" Type="http://schemas.openxmlformats.org/officeDocument/2006/relationships/hyperlink" Target="http://en.wikipedia.org/wiki/Westminster_Abbey" TargetMode="External"/><Relationship Id="rId30" Type="http://schemas.openxmlformats.org/officeDocument/2006/relationships/hyperlink" Target="http://en.wikipedia.org/wiki/John_Herschel" TargetMode="External"/><Relationship Id="rId31" Type="http://schemas.openxmlformats.org/officeDocument/2006/relationships/hyperlink" Target="http://en.wikipedia.org/wiki/Isaac_Newton" TargetMode="External"/><Relationship Id="rId32" Type="http://schemas.openxmlformats.org/officeDocument/2006/relationships/hyperlink" Target="http://en.wikipedia.org/wiki/Image:Charles_Darwin_1854.jpg" TargetMode="External"/><Relationship Id="rId33" Type="http://schemas.openxmlformats.org/officeDocument/2006/relationships/image" Target="../media/image1.jpeg"/><Relationship Id="rId3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harles_Darwin_1854.jpg" TargetMode="External"/><Relationship Id="rId2" Type="http://schemas.openxmlformats.org/officeDocument/2006/relationships/hyperlink" Target="http://en.wikipedia.org/wiki/February_12" TargetMode="External"/><Relationship Id="rId3" Type="http://schemas.openxmlformats.org/officeDocument/2006/relationships/hyperlink" Target="http://en.wikipedia.org/wiki/1809" TargetMode="External"/><Relationship Id="rId4" Type="http://schemas.openxmlformats.org/officeDocument/2006/relationships/hyperlink" Target="http://en.wikipedia.org/wiki/April_19" TargetMode="External"/><Relationship Id="rId5" Type="http://schemas.openxmlformats.org/officeDocument/2006/relationships/hyperlink" Target="http://en.wikipedia.org/wiki/1882" TargetMode="External"/><Relationship Id="rId6" Type="http://schemas.openxmlformats.org/officeDocument/2006/relationships/hyperlink" Target="http://en.wikipedia.org/wiki/England" TargetMode="External"/><Relationship Id="rId7" Type="http://schemas.openxmlformats.org/officeDocument/2006/relationships/hyperlink" Target="http://en.wikipedia.org/wiki/Natural_history" TargetMode="External"/><Relationship Id="rId8" Type="http://schemas.openxmlformats.org/officeDocument/2006/relationships/hyperlink" Target="http://en.wikipedia.org/wiki/Species" TargetMode="External"/><Relationship Id="rId9" Type="http://schemas.openxmlformats.org/officeDocument/2006/relationships/hyperlink" Target="http://en.wikipedia.org/wiki/Evolution" TargetMode="External"/><Relationship Id="rId10" Type="http://schemas.openxmlformats.org/officeDocument/2006/relationships/hyperlink" Target="http://en.wikipedia.org/wiki/Scientific_theory" TargetMode="External"/><Relationship Id="rId11" Type="http://schemas.openxmlformats.org/officeDocument/2006/relationships/hyperlink" Target="http://en.wikipedia.org/wiki/Natural_selection" TargetMode="External"/><Relationship Id="rId12" Type="http://schemas.openxmlformats.org/officeDocument/2006/relationships/hyperlink" Target="http://en.wikipedia.org/wiki/Biology" TargetMode="External"/><Relationship Id="rId13" Type="http://schemas.openxmlformats.org/officeDocument/2006/relationships/hyperlink" Target="http://en.wikipedia.org/wiki/Medicine" TargetMode="External"/><Relationship Id="rId14" Type="http://schemas.openxmlformats.org/officeDocument/2006/relationships/hyperlink" Target="http://en.wikipedia.org/wiki/Theology" TargetMode="External"/><Relationship Id="rId15" Type="http://schemas.openxmlformats.org/officeDocument/2006/relationships/hyperlink" Target="http://en.wikipedia.org/wiki/The_Voyage_of_the_Beagle" TargetMode="External"/><Relationship Id="rId16" Type="http://schemas.openxmlformats.org/officeDocument/2006/relationships/hyperlink" Target="http://en.wikipedia.org/wiki/HMS_Beagle" TargetMode="External"/><Relationship Id="rId17" Type="http://schemas.openxmlformats.org/officeDocument/2006/relationships/hyperlink" Target="http://en.wikipedia.org/wiki/Geology" TargetMode="External"/><Relationship Id="rId18" Type="http://schemas.openxmlformats.org/officeDocument/2006/relationships/hyperlink" Target="http://en.wikipedia.org/wiki/Transmutation_of_species" TargetMode="External"/><Relationship Id="rId19" Type="http://schemas.openxmlformats.org/officeDocument/2006/relationships/hyperlink" Target="http://en.wikipedia.org/wiki/Heresy#Contemporary_heresy" TargetMode="External"/><Relationship Id="rId20" Type="http://schemas.openxmlformats.org/officeDocument/2006/relationships/hyperlink" Target="http://en.wikipedia.org/wiki/Alfred_Russel_Wallace" TargetMode="External"/><Relationship Id="rId21" Type="http://schemas.openxmlformats.org/officeDocument/2006/relationships/hyperlink" Target="http://en.wikipedia.org/wiki/Alfred_Russel_Wallace" TargetMode="External"/><Relationship Id="rId22" Type="http://schemas.openxmlformats.org/officeDocument/2006/relationships/hyperlink" Target="http://en.wikipedia.org/wiki/Alfred_Russel_Wallace" TargetMode="External"/><Relationship Id="rId23" Type="http://schemas.openxmlformats.org/officeDocument/2006/relationships/hyperlink" Target="http://en.wikipedia.org/wiki/Publication_of_Darwin%27s_theory" TargetMode="External"/><Relationship Id="rId24" Type="http://schemas.openxmlformats.org/officeDocument/2006/relationships/hyperlink" Target="http://en.wikipedia.org/wiki/The_Origin_of_Species" TargetMode="External"/><Relationship Id="rId25" Type="http://schemas.openxmlformats.org/officeDocument/2006/relationships/hyperlink" Target="http://en.wikipedia.org/wiki/Common_descent" TargetMode="External"/><Relationship Id="rId26" Type="http://schemas.openxmlformats.org/officeDocument/2006/relationships/hyperlink" Target="http://en.wikipedia.org/wiki/Fellow_of_the_Royal_Society" TargetMode="External"/><Relationship Id="rId27" Type="http://schemas.openxmlformats.org/officeDocument/2006/relationships/hyperlink" Target="http://en.wikipedia.org/wiki/The_Descent_of_Man%2C_and_Selection_in_Relation_to_Sex" TargetMode="External"/><Relationship Id="rId28" Type="http://schemas.openxmlformats.org/officeDocument/2006/relationships/hyperlink" Target="http://en.wikipedia.org/wiki/The_Expression_of_the_Emotions_in_Man_and_Animals" TargetMode="External"/><Relationship Id="rId29" Type="http://schemas.openxmlformats.org/officeDocument/2006/relationships/hyperlink" Target="http://en.wikipedia.org/wiki/Westminster_Abbey" TargetMode="External"/><Relationship Id="rId30" Type="http://schemas.openxmlformats.org/officeDocument/2006/relationships/hyperlink" Target="http://en.wikipedia.org/wiki/John_Herschel" TargetMode="External"/><Relationship Id="rId31" Type="http://schemas.openxmlformats.org/officeDocument/2006/relationships/hyperlink" Target="http://en.wikipedia.org/wiki/Isaac_Newton" TargetMode="External"/><Relationship Id="rId32" Type="http://schemas.openxmlformats.org/officeDocument/2006/relationships/hyperlink" Target="http://en.wikipedia.org/wiki/Image:Charles_Darwin_1854.jpg" TargetMode="External"/><Relationship Id="rId33" Type="http://schemas.openxmlformats.org/officeDocument/2006/relationships/image" Target="../media/image1.jpeg"/><Relationship Id="rId3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1809" TargetMode="External"/><Relationship Id="rId2" Type="http://schemas.openxmlformats.org/officeDocument/2006/relationships/hyperlink" Target="http://en.wikipedia.org/wiki/Species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Natural_selection" TargetMode="External"/><Relationship Id="rId5" Type="http://schemas.openxmlformats.org/officeDocument/2006/relationships/hyperlink" Target="http://en.wikipedia.org/wiki/The_Voyage_of_the_Beagle" TargetMode="External"/><Relationship Id="rId6" Type="http://schemas.openxmlformats.org/officeDocument/2006/relationships/hyperlink" Target="http://en.wikipedia.org/wiki/HMS_Beagle" TargetMode="External"/><Relationship Id="rId7" Type="http://schemas.openxmlformats.org/officeDocument/2006/relationships/hyperlink" Target="http://en.wikipedia.org/wiki/Heresy#Contemporary_heresy" TargetMode="External"/><Relationship Id="rId8" Type="http://schemas.openxmlformats.org/officeDocument/2006/relationships/hyperlink" Target="http://en.wikipedia.org/wiki/Alfred_Russel_Wallace" TargetMode="External"/><Relationship Id="rId9" Type="http://schemas.openxmlformats.org/officeDocument/2006/relationships/hyperlink" Target="http://en.wikipedia.org/wiki/Publication_of_Darwin%27s_theory" TargetMode="External"/><Relationship Id="rId10" Type="http://schemas.openxmlformats.org/officeDocument/2006/relationships/hyperlink" Target="http://en.wikipedia.org/wiki/The_Origin_of_Species" TargetMode="External"/><Relationship Id="rId11" Type="http://schemas.openxmlformats.org/officeDocument/2006/relationships/hyperlink" Target="http://en.wikipedia.org/wiki/Common_descent" TargetMode="External"/><Relationship Id="rId12" Type="http://schemas.openxmlformats.org/officeDocument/2006/relationships/hyperlink" Target="http://en.wikipedia.org/wiki/Westminster_Abbey" TargetMode="External"/><Relationship Id="rId13" Type="http://schemas.openxmlformats.org/officeDocument/2006/relationships/hyperlink" Target="http://en.wikipedia.org/wiki/John_Herschel" TargetMode="External"/><Relationship Id="rId14" Type="http://schemas.openxmlformats.org/officeDocument/2006/relationships/hyperlink" Target="http://en.wikipedia.org/wiki/Isaac_Newton" TargetMode="External"/><Relationship Id="rId15" Type="http://schemas.openxmlformats.org/officeDocument/2006/relationships/hyperlink" Target="http://en.wikipedia.org/wiki/Image:Charles_Darwin_1854.jpg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ravel-travel-travel.com/out/archives/16/DARWINS_FINCHES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e really come from m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pecies that have ever lived evolved from simple life forms that first developed more than three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’s explan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olution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28616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482436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4932360" y="2491920"/>
            <a:ext cx="86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give rise to differences withi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imes of competition, these differences will mean that some animals are better adapted to surv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be the ones that pass their gene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haracteristics will be passe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per mo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lots of “pepper” –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not much “pepper” –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oggy, industrial England the buildings were dark grey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eaner, modern England our buildings are cleaner and lighter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242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atural Selection – brainpop sty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andecosystems/naturalselecti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ocialstudies/ushistory/scopesmonkeytria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QA pages 110 and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on page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you have said to Darwin? 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published in a magazine called “The Horn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hornet, I wo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aricature de Darwin en singe dans le magazine The Hornet"/>
          <p:cNvPicPr/>
          <p:nvPr/>
        </p:nvPicPr>
        <p:blipFill>
          <a:blip r:embed="rId1"/>
          <a:stretch/>
        </p:blipFill>
        <p:spPr>
          <a:xfrm>
            <a:off x="5003640" y="1557360"/>
            <a:ext cx="3608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learning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that helps us underst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n pairs what you already know or believe about where we com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’ll share ou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– feedba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us should be able to explain Darwin’s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us should be able to explain how Darwin’s ideas were different from other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us will be able to explain why there are different theories explaining life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his lifetime, Charles Darwin gained international fame as an influential scientist scienctist examining controversial top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Febru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 Apri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was a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nglis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tural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o achieved lasting fame by producing considerable evidence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, at the same time proposing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tific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This theory is now considered a cornerstone of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bi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win developed an interest in natural history while studying firs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edic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h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t university. Darwin's 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rought him eminence as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eolog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fame as a popular author. His biological finds led him to study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ransmutatio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in 1838 he conceived his theory of natural selection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and continued his research to meet anticipated objections. However, in 1858 the information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lfre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ussel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book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n the Origin of Species by Means of Natural Selection, or The Preservation of Favoured Races in the Struggle for Lif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usually abbreviated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 He was made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llow of the Royal Socie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ontinued his research, and wrote a series of books on plants and animals, including humankind, notabl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The Descent of Man, and Selection in Relation to Se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The Expression of the Emotions in Man and Animal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lose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John Hersche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n his lifetime, Charles Darwin gained international fame as an influential scientist examining controversial topics.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his lifetime, Charles Darwin gained international fame as an influential scientist scienctist examining controversial top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Febru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 Apri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was a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nglis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tural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o achieved lasting fame by producing considerable evidence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, at the same time proposing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tific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This theory is now considered a cornerstone of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bi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win developed an interest in natural history while studying firs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edic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h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t university. Darwin's 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rought him eminence as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eolog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fame as a popular author. His biological finds led him to study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ransmutatio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in 1838 he conceived his theory of natural selection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and continued his research to meet anticipated objections. However, in 1858 the information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lfre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ussel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book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n the Origin of Species by Means of Natural Selection, or The Preservation of Favoured Races in the Struggle for Lif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usually abbreviated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 He was made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llow of the Royal Socie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ontinued his research, and wrote a series of books on plants and animals, including humankind, notabl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The Descent of Man, and Selection in Relation to Se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The Expression of the Emotions in Man and Animal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lose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John Hersche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n his lifetime, Charles Darwin gained international fame as an influential scientist examining controversial topics.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8080" y="1938240"/>
            <a:ext cx="501840" cy="1800"/>
          </a:xfrm>
          <a:custGeom>
            <a:avLst/>
            <a:gdLst/>
            <a:ahLst/>
            <a:rect l="l" t="t" r="r" b="b"/>
            <a:pathLst>
              <a:path w="1390" h="1">
                <a:moveTo>
                  <a:pt x="12080" y="5383"/>
                </a:moveTo>
                <a:cubicBezTo>
                  <a:pt x="12543" y="5383"/>
                  <a:pt x="13006" y="5383"/>
                  <a:pt x="13469" y="53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4160" y="2313000"/>
            <a:ext cx="4268880" cy="71280"/>
          </a:xfrm>
          <a:custGeom>
            <a:avLst/>
            <a:gdLst/>
            <a:ahLst/>
            <a:rect l="l" t="t" r="r" b="b"/>
            <a:pathLst>
              <a:path w="11857" h="200">
                <a:moveTo>
                  <a:pt x="2456" y="6548"/>
                </a:moveTo>
                <a:cubicBezTo>
                  <a:pt x="2514" y="6543"/>
                  <a:pt x="2549" y="6527"/>
                  <a:pt x="2604" y="6524"/>
                </a:cubicBezTo>
                <a:cubicBezTo>
                  <a:pt x="3991" y="6460"/>
                  <a:pt x="5393" y="6548"/>
                  <a:pt x="6772" y="6474"/>
                </a:cubicBezTo>
                <a:cubicBezTo>
                  <a:pt x="6907" y="6467"/>
                  <a:pt x="7036" y="6462"/>
                  <a:pt x="7169" y="6449"/>
                </a:cubicBezTo>
                <a:cubicBezTo>
                  <a:pt x="7256" y="6440"/>
                  <a:pt x="7327" y="6428"/>
                  <a:pt x="7417" y="6424"/>
                </a:cubicBezTo>
                <a:cubicBezTo>
                  <a:pt x="9187" y="6338"/>
                  <a:pt x="11146" y="6275"/>
                  <a:pt x="12898" y="6474"/>
                </a:cubicBezTo>
                <a:cubicBezTo>
                  <a:pt x="13029" y="6489"/>
                  <a:pt x="13185" y="6500"/>
                  <a:pt x="13320" y="6524"/>
                </a:cubicBezTo>
                <a:cubicBezTo>
                  <a:pt x="13374" y="6534"/>
                  <a:pt x="13420" y="6538"/>
                  <a:pt x="13469" y="6548"/>
                </a:cubicBezTo>
                <a:cubicBezTo>
                  <a:pt x="13536" y="6562"/>
                  <a:pt x="13573" y="6591"/>
                  <a:pt x="13643" y="6598"/>
                </a:cubicBezTo>
                <a:cubicBezTo>
                  <a:pt x="13808" y="6615"/>
                  <a:pt x="13978" y="6617"/>
                  <a:pt x="14139" y="6623"/>
                </a:cubicBezTo>
                <a:cubicBezTo>
                  <a:pt x="14197" y="6625"/>
                  <a:pt x="14254" y="6621"/>
                  <a:pt x="14312" y="66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14760" y="2527200"/>
            <a:ext cx="5232240" cy="17640"/>
          </a:xfrm>
          <a:custGeom>
            <a:avLst/>
            <a:gdLst/>
            <a:ahLst/>
            <a:rect l="l" t="t" r="r" b="b"/>
            <a:pathLst>
              <a:path w="14536" h="50">
                <a:moveTo>
                  <a:pt x="7541" y="7069"/>
                </a:moveTo>
                <a:cubicBezTo>
                  <a:pt x="10224" y="7069"/>
                  <a:pt x="12930" y="7131"/>
                  <a:pt x="15602" y="7020"/>
                </a:cubicBezTo>
                <a:cubicBezTo>
                  <a:pt x="17716" y="6932"/>
                  <a:pt x="20022" y="7020"/>
                  <a:pt x="22051" y="70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0800" y="2776680"/>
            <a:ext cx="777960" cy="19080"/>
          </a:xfrm>
          <a:custGeom>
            <a:avLst/>
            <a:gdLst/>
            <a:ahLst/>
            <a:rect l="l" t="t" r="r" b="b"/>
            <a:pathLst>
              <a:path w="2159" h="51">
                <a:moveTo>
                  <a:pt x="2282" y="7714"/>
                </a:moveTo>
                <a:cubicBezTo>
                  <a:pt x="2378" y="7714"/>
                  <a:pt x="2465" y="7725"/>
                  <a:pt x="2555" y="7739"/>
                </a:cubicBezTo>
                <a:cubicBezTo>
                  <a:pt x="2682" y="7759"/>
                  <a:pt x="2823" y="7761"/>
                  <a:pt x="2952" y="7764"/>
                </a:cubicBezTo>
                <a:cubicBezTo>
                  <a:pt x="3333" y="7773"/>
                  <a:pt x="4162" y="7907"/>
                  <a:pt x="4440" y="773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197160"/>
            <a:ext cx="2832120" cy="54000"/>
          </a:xfrm>
          <a:custGeom>
            <a:avLst/>
            <a:gdLst/>
            <a:ahLst/>
            <a:rect l="l" t="t" r="r" b="b"/>
            <a:pathLst>
              <a:path w="7864" h="150">
                <a:moveTo>
                  <a:pt x="15453" y="8880"/>
                </a:moveTo>
                <a:cubicBezTo>
                  <a:pt x="15675" y="8880"/>
                  <a:pt x="15905" y="8876"/>
                  <a:pt x="16123" y="8905"/>
                </a:cubicBezTo>
                <a:cubicBezTo>
                  <a:pt x="16311" y="8930"/>
                  <a:pt x="16477" y="8954"/>
                  <a:pt x="16669" y="8954"/>
                </a:cubicBezTo>
                <a:cubicBezTo>
                  <a:pt x="16926" y="8954"/>
                  <a:pt x="17180" y="8979"/>
                  <a:pt x="17438" y="8979"/>
                </a:cubicBezTo>
                <a:cubicBezTo>
                  <a:pt x="17713" y="8979"/>
                  <a:pt x="17982" y="9000"/>
                  <a:pt x="18256" y="9004"/>
                </a:cubicBezTo>
                <a:cubicBezTo>
                  <a:pt x="19239" y="9018"/>
                  <a:pt x="20230" y="8973"/>
                  <a:pt x="21208" y="9029"/>
                </a:cubicBezTo>
                <a:cubicBezTo>
                  <a:pt x="21436" y="9042"/>
                  <a:pt x="21692" y="9042"/>
                  <a:pt x="21903" y="9004"/>
                </a:cubicBezTo>
                <a:cubicBezTo>
                  <a:pt x="21956" y="8994"/>
                  <a:pt x="21999" y="8994"/>
                  <a:pt x="22051" y="8979"/>
                </a:cubicBezTo>
                <a:cubicBezTo>
                  <a:pt x="22105" y="8963"/>
                  <a:pt x="22151" y="8943"/>
                  <a:pt x="22200" y="8930"/>
                </a:cubicBezTo>
                <a:cubicBezTo>
                  <a:pt x="22232" y="8921"/>
                  <a:pt x="22242" y="8909"/>
                  <a:pt x="22275" y="8905"/>
                </a:cubicBezTo>
                <a:cubicBezTo>
                  <a:pt x="22451" y="8884"/>
                  <a:pt x="22627" y="8919"/>
                  <a:pt x="22796" y="8930"/>
                </a:cubicBezTo>
                <a:cubicBezTo>
                  <a:pt x="22881" y="8935"/>
                  <a:pt x="22960" y="8949"/>
                  <a:pt x="23044" y="8954"/>
                </a:cubicBezTo>
                <a:cubicBezTo>
                  <a:pt x="23134" y="8960"/>
                  <a:pt x="23226" y="8954"/>
                  <a:pt x="23316" y="89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5840" y="3152880"/>
            <a:ext cx="1411200" cy="54000"/>
          </a:xfrm>
          <a:custGeom>
            <a:avLst/>
            <a:gdLst/>
            <a:ahLst/>
            <a:rect l="l" t="t" r="r" b="b"/>
            <a:pathLst>
              <a:path w="3920" h="150">
                <a:moveTo>
                  <a:pt x="10542" y="8830"/>
                </a:moveTo>
                <a:cubicBezTo>
                  <a:pt x="10605" y="8820"/>
                  <a:pt x="10655" y="8793"/>
                  <a:pt x="10716" y="8781"/>
                </a:cubicBezTo>
                <a:cubicBezTo>
                  <a:pt x="10807" y="8763"/>
                  <a:pt x="10922" y="8766"/>
                  <a:pt x="11013" y="8756"/>
                </a:cubicBezTo>
                <a:cubicBezTo>
                  <a:pt x="11193" y="8736"/>
                  <a:pt x="11386" y="8767"/>
                  <a:pt x="11559" y="8781"/>
                </a:cubicBezTo>
                <a:cubicBezTo>
                  <a:pt x="11719" y="8794"/>
                  <a:pt x="11878" y="8762"/>
                  <a:pt x="12030" y="8806"/>
                </a:cubicBezTo>
                <a:cubicBezTo>
                  <a:pt x="12119" y="8832"/>
                  <a:pt x="12212" y="8847"/>
                  <a:pt x="12303" y="8855"/>
                </a:cubicBezTo>
                <a:cubicBezTo>
                  <a:pt x="12375" y="8862"/>
                  <a:pt x="12430" y="8877"/>
                  <a:pt x="12502" y="8880"/>
                </a:cubicBezTo>
                <a:cubicBezTo>
                  <a:pt x="12597" y="8883"/>
                  <a:pt x="12681" y="8897"/>
                  <a:pt x="12774" y="8905"/>
                </a:cubicBezTo>
                <a:cubicBezTo>
                  <a:pt x="13325" y="8955"/>
                  <a:pt x="13907" y="8905"/>
                  <a:pt x="14461" y="8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21000" y="3741840"/>
            <a:ext cx="5046840" cy="88920"/>
          </a:xfrm>
          <a:custGeom>
            <a:avLst/>
            <a:gdLst/>
            <a:ahLst/>
            <a:rect l="l" t="t" r="r" b="b"/>
            <a:pathLst>
              <a:path w="14016" h="249">
                <a:moveTo>
                  <a:pt x="9227" y="10517"/>
                </a:moveTo>
                <a:cubicBezTo>
                  <a:pt x="9270" y="10514"/>
                  <a:pt x="9288" y="10493"/>
                  <a:pt x="9327" y="10492"/>
                </a:cubicBezTo>
                <a:cubicBezTo>
                  <a:pt x="10193" y="10460"/>
                  <a:pt x="11096" y="10404"/>
                  <a:pt x="11956" y="10443"/>
                </a:cubicBezTo>
                <a:cubicBezTo>
                  <a:pt x="13396" y="10508"/>
                  <a:pt x="14858" y="10485"/>
                  <a:pt x="16297" y="10443"/>
                </a:cubicBezTo>
                <a:cubicBezTo>
                  <a:pt x="17067" y="10420"/>
                  <a:pt x="17839" y="10426"/>
                  <a:pt x="18604" y="10393"/>
                </a:cubicBezTo>
                <a:cubicBezTo>
                  <a:pt x="19646" y="10349"/>
                  <a:pt x="20760" y="10339"/>
                  <a:pt x="21803" y="10418"/>
                </a:cubicBezTo>
                <a:cubicBezTo>
                  <a:pt x="21981" y="10432"/>
                  <a:pt x="22185" y="10441"/>
                  <a:pt x="22349" y="10468"/>
                </a:cubicBezTo>
                <a:cubicBezTo>
                  <a:pt x="22460" y="10486"/>
                  <a:pt x="22562" y="10515"/>
                  <a:pt x="22671" y="10542"/>
                </a:cubicBezTo>
                <a:cubicBezTo>
                  <a:pt x="22775" y="10568"/>
                  <a:pt x="22867" y="10572"/>
                  <a:pt x="22969" y="10592"/>
                </a:cubicBezTo>
                <a:cubicBezTo>
                  <a:pt x="23059" y="10610"/>
                  <a:pt x="23131" y="10627"/>
                  <a:pt x="23217" y="10641"/>
                </a:cubicBezTo>
                <a:cubicBezTo>
                  <a:pt x="23225" y="10641"/>
                  <a:pt x="23234" y="10641"/>
                  <a:pt x="23242" y="1064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0914"/>
                </a:moveTo>
                <a:lnTo>
                  <a:pt x="3969" y="1091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8880" y="3946680"/>
            <a:ext cx="2135160" cy="27000"/>
          </a:xfrm>
          <a:custGeom>
            <a:avLst/>
            <a:gdLst/>
            <a:ahLst/>
            <a:rect l="l" t="t" r="r" b="b"/>
            <a:pathLst>
              <a:path w="5930" h="75">
                <a:moveTo>
                  <a:pt x="2108" y="11038"/>
                </a:moveTo>
                <a:cubicBezTo>
                  <a:pt x="2168" y="11025"/>
                  <a:pt x="2145" y="11026"/>
                  <a:pt x="2208" y="11013"/>
                </a:cubicBezTo>
                <a:cubicBezTo>
                  <a:pt x="2294" y="10996"/>
                  <a:pt x="2363" y="10990"/>
                  <a:pt x="2456" y="10988"/>
                </a:cubicBezTo>
                <a:cubicBezTo>
                  <a:pt x="4176" y="10947"/>
                  <a:pt x="5962" y="11101"/>
                  <a:pt x="7665" y="10964"/>
                </a:cubicBezTo>
                <a:cubicBezTo>
                  <a:pt x="7787" y="10954"/>
                  <a:pt x="7914" y="10964"/>
                  <a:pt x="8037" y="1096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14800" y="3946680"/>
            <a:ext cx="3089160" cy="18720"/>
          </a:xfrm>
          <a:custGeom>
            <a:avLst/>
            <a:gdLst/>
            <a:ahLst/>
            <a:rect l="l" t="t" r="r" b="b"/>
            <a:pathLst>
              <a:path w="8583" h="50">
                <a:moveTo>
                  <a:pt x="8930" y="11013"/>
                </a:moveTo>
                <a:cubicBezTo>
                  <a:pt x="8989" y="11005"/>
                  <a:pt x="9044" y="10990"/>
                  <a:pt x="9103" y="10988"/>
                </a:cubicBezTo>
                <a:cubicBezTo>
                  <a:pt x="9773" y="10964"/>
                  <a:pt x="10442" y="11013"/>
                  <a:pt x="11112" y="11013"/>
                </a:cubicBezTo>
                <a:cubicBezTo>
                  <a:pt x="11483" y="11013"/>
                  <a:pt x="11840" y="10996"/>
                  <a:pt x="12204" y="10964"/>
                </a:cubicBezTo>
                <a:cubicBezTo>
                  <a:pt x="13949" y="10810"/>
                  <a:pt x="15758" y="10964"/>
                  <a:pt x="17512" y="1096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59720" y="3973680"/>
            <a:ext cx="893520" cy="71280"/>
          </a:xfrm>
          <a:custGeom>
            <a:avLst/>
            <a:gdLst/>
            <a:ahLst/>
            <a:rect l="l" t="t" r="r" b="b"/>
            <a:pathLst>
              <a:path w="2482" h="200">
                <a:moveTo>
                  <a:pt x="18777" y="11187"/>
                </a:moveTo>
                <a:cubicBezTo>
                  <a:pt x="18986" y="11187"/>
                  <a:pt x="19190" y="11205"/>
                  <a:pt x="19397" y="11212"/>
                </a:cubicBezTo>
                <a:cubicBezTo>
                  <a:pt x="19719" y="11224"/>
                  <a:pt x="20043" y="11233"/>
                  <a:pt x="20365" y="11237"/>
                </a:cubicBezTo>
                <a:cubicBezTo>
                  <a:pt x="20511" y="11239"/>
                  <a:pt x="20907" y="11296"/>
                  <a:pt x="21010" y="11212"/>
                </a:cubicBezTo>
                <a:cubicBezTo>
                  <a:pt x="21031" y="11195"/>
                  <a:pt x="21052" y="11179"/>
                  <a:pt x="21084" y="11162"/>
                </a:cubicBezTo>
                <a:cubicBezTo>
                  <a:pt x="21108" y="11149"/>
                  <a:pt x="21150" y="11122"/>
                  <a:pt x="21158" y="11112"/>
                </a:cubicBezTo>
                <a:cubicBezTo>
                  <a:pt x="21200" y="11053"/>
                  <a:pt x="21204" y="11071"/>
                  <a:pt x="21258" y="1103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6880" y="4133880"/>
            <a:ext cx="830160" cy="27000"/>
          </a:xfrm>
          <a:custGeom>
            <a:avLst/>
            <a:gdLst/>
            <a:ahLst/>
            <a:rect l="l" t="t" r="r" b="b"/>
            <a:pathLst>
              <a:path w="2308" h="75">
                <a:moveTo>
                  <a:pt x="2406" y="11509"/>
                </a:moveTo>
                <a:cubicBezTo>
                  <a:pt x="2753" y="11509"/>
                  <a:pt x="3104" y="11492"/>
                  <a:pt x="3448" y="11534"/>
                </a:cubicBezTo>
                <a:cubicBezTo>
                  <a:pt x="3656" y="11559"/>
                  <a:pt x="3858" y="11559"/>
                  <a:pt x="4068" y="11559"/>
                </a:cubicBezTo>
                <a:cubicBezTo>
                  <a:pt x="4216" y="11559"/>
                  <a:pt x="4406" y="11556"/>
                  <a:pt x="4514" y="11534"/>
                </a:cubicBezTo>
                <a:cubicBezTo>
                  <a:pt x="4551" y="11526"/>
                  <a:pt x="4632" y="11510"/>
                  <a:pt x="4638" y="11509"/>
                </a:cubicBezTo>
                <a:cubicBezTo>
                  <a:pt x="4684" y="11500"/>
                  <a:pt x="4691" y="11498"/>
                  <a:pt x="4713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4098960"/>
            <a:ext cx="857160" cy="81000"/>
          </a:xfrm>
          <a:custGeom>
            <a:avLst/>
            <a:gdLst/>
            <a:ahLst/>
            <a:rect l="l" t="t" r="r" b="b"/>
            <a:pathLst>
              <a:path w="2382" h="225">
                <a:moveTo>
                  <a:pt x="12502" y="11609"/>
                </a:moveTo>
                <a:cubicBezTo>
                  <a:pt x="12526" y="11609"/>
                  <a:pt x="12534" y="11609"/>
                  <a:pt x="12526" y="11584"/>
                </a:cubicBezTo>
                <a:cubicBezTo>
                  <a:pt x="12563" y="11579"/>
                  <a:pt x="12598" y="11564"/>
                  <a:pt x="12626" y="11559"/>
                </a:cubicBezTo>
                <a:cubicBezTo>
                  <a:pt x="12657" y="11554"/>
                  <a:pt x="12704" y="11537"/>
                  <a:pt x="12725" y="11534"/>
                </a:cubicBezTo>
                <a:cubicBezTo>
                  <a:pt x="12795" y="11525"/>
                  <a:pt x="12808" y="11505"/>
                  <a:pt x="12874" y="11485"/>
                </a:cubicBezTo>
                <a:cubicBezTo>
                  <a:pt x="12936" y="11466"/>
                  <a:pt x="13012" y="11455"/>
                  <a:pt x="13072" y="11435"/>
                </a:cubicBezTo>
                <a:cubicBezTo>
                  <a:pt x="13149" y="11409"/>
                  <a:pt x="13216" y="11428"/>
                  <a:pt x="13295" y="11410"/>
                </a:cubicBezTo>
                <a:cubicBezTo>
                  <a:pt x="13340" y="11400"/>
                  <a:pt x="13366" y="11388"/>
                  <a:pt x="13419" y="11385"/>
                </a:cubicBezTo>
                <a:cubicBezTo>
                  <a:pt x="13750" y="11369"/>
                  <a:pt x="14617" y="11251"/>
                  <a:pt x="14883" y="1141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4000" y="4205160"/>
            <a:ext cx="554040" cy="27000"/>
          </a:xfrm>
          <a:custGeom>
            <a:avLst/>
            <a:gdLst/>
            <a:ahLst/>
            <a:rect l="l" t="t" r="r" b="b"/>
            <a:pathLst>
              <a:path w="1539" h="75">
                <a:moveTo>
                  <a:pt x="15652" y="11757"/>
                </a:moveTo>
                <a:cubicBezTo>
                  <a:pt x="15660" y="11755"/>
                  <a:pt x="15749" y="11736"/>
                  <a:pt x="15751" y="11733"/>
                </a:cubicBezTo>
                <a:cubicBezTo>
                  <a:pt x="15774" y="11705"/>
                  <a:pt x="15773" y="11708"/>
                  <a:pt x="15825" y="11708"/>
                </a:cubicBezTo>
                <a:cubicBezTo>
                  <a:pt x="16231" y="11708"/>
                  <a:pt x="16766" y="11808"/>
                  <a:pt x="17140" y="11683"/>
                </a:cubicBezTo>
                <a:cubicBezTo>
                  <a:pt x="17165" y="11683"/>
                  <a:pt x="17173" y="11683"/>
                  <a:pt x="17190" y="116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9040" y="4313160"/>
            <a:ext cx="3519360" cy="98640"/>
          </a:xfrm>
          <a:custGeom>
            <a:avLst/>
            <a:gdLst/>
            <a:ahLst/>
            <a:rect l="l" t="t" r="r" b="b"/>
            <a:pathLst>
              <a:path w="9774" h="274">
                <a:moveTo>
                  <a:pt x="4415" y="11981"/>
                </a:moveTo>
                <a:cubicBezTo>
                  <a:pt x="4701" y="11989"/>
                  <a:pt x="4954" y="12064"/>
                  <a:pt x="5234" y="12105"/>
                </a:cubicBezTo>
                <a:cubicBezTo>
                  <a:pt x="5562" y="12152"/>
                  <a:pt x="5868" y="12224"/>
                  <a:pt x="6201" y="12229"/>
                </a:cubicBezTo>
                <a:cubicBezTo>
                  <a:pt x="6401" y="12232"/>
                  <a:pt x="6596" y="12251"/>
                  <a:pt x="6796" y="12254"/>
                </a:cubicBezTo>
                <a:cubicBezTo>
                  <a:pt x="6934" y="12256"/>
                  <a:pt x="7058" y="12235"/>
                  <a:pt x="7193" y="12229"/>
                </a:cubicBezTo>
                <a:cubicBezTo>
                  <a:pt x="9120" y="12139"/>
                  <a:pt x="11086" y="12286"/>
                  <a:pt x="12998" y="12204"/>
                </a:cubicBezTo>
                <a:cubicBezTo>
                  <a:pt x="13251" y="12193"/>
                  <a:pt x="13529" y="12191"/>
                  <a:pt x="13767" y="12179"/>
                </a:cubicBezTo>
                <a:cubicBezTo>
                  <a:pt x="13907" y="12172"/>
                  <a:pt x="14048" y="12179"/>
                  <a:pt x="14188" y="1217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8280" y="4759200"/>
            <a:ext cx="588960" cy="44640"/>
          </a:xfrm>
          <a:custGeom>
            <a:avLst/>
            <a:gdLst/>
            <a:ahLst/>
            <a:rect l="l" t="t" r="r" b="b"/>
            <a:pathLst>
              <a:path w="1638" h="125">
                <a:moveTo>
                  <a:pt x="3522" y="13345"/>
                </a:moveTo>
                <a:cubicBezTo>
                  <a:pt x="3609" y="13339"/>
                  <a:pt x="3688" y="13311"/>
                  <a:pt x="3770" y="13295"/>
                </a:cubicBezTo>
                <a:cubicBezTo>
                  <a:pt x="3827" y="13284"/>
                  <a:pt x="3855" y="13274"/>
                  <a:pt x="3919" y="13271"/>
                </a:cubicBezTo>
                <a:cubicBezTo>
                  <a:pt x="3970" y="13269"/>
                  <a:pt x="3995" y="13254"/>
                  <a:pt x="4043" y="13246"/>
                </a:cubicBezTo>
                <a:cubicBezTo>
                  <a:pt x="4111" y="13235"/>
                  <a:pt x="4179" y="13225"/>
                  <a:pt x="4242" y="13221"/>
                </a:cubicBezTo>
                <a:cubicBezTo>
                  <a:pt x="4378" y="13213"/>
                  <a:pt x="4507" y="13231"/>
                  <a:pt x="4638" y="13246"/>
                </a:cubicBezTo>
                <a:cubicBezTo>
                  <a:pt x="4806" y="13265"/>
                  <a:pt x="4991" y="13246"/>
                  <a:pt x="5159" y="132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160" y="5205240"/>
            <a:ext cx="1706760" cy="19080"/>
          </a:xfrm>
          <a:custGeom>
            <a:avLst/>
            <a:gdLst/>
            <a:ahLst/>
            <a:rect l="l" t="t" r="r" b="b"/>
            <a:pathLst>
              <a:path w="4739" h="51">
                <a:moveTo>
                  <a:pt x="2158" y="14511"/>
                </a:moveTo>
                <a:cubicBezTo>
                  <a:pt x="2192" y="14499"/>
                  <a:pt x="2224" y="14499"/>
                  <a:pt x="2257" y="14486"/>
                </a:cubicBezTo>
                <a:cubicBezTo>
                  <a:pt x="2294" y="14471"/>
                  <a:pt x="2280" y="14468"/>
                  <a:pt x="2332" y="14461"/>
                </a:cubicBezTo>
                <a:cubicBezTo>
                  <a:pt x="2575" y="14427"/>
                  <a:pt x="2836" y="14498"/>
                  <a:pt x="3076" y="14511"/>
                </a:cubicBezTo>
                <a:cubicBezTo>
                  <a:pt x="4208" y="14571"/>
                  <a:pt x="5558" y="14624"/>
                  <a:pt x="6648" y="14486"/>
                </a:cubicBezTo>
                <a:cubicBezTo>
                  <a:pt x="6728" y="14476"/>
                  <a:pt x="6816" y="14486"/>
                  <a:pt x="6896" y="144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43200" y="5116680"/>
            <a:ext cx="4197600" cy="117360"/>
          </a:xfrm>
          <a:custGeom>
            <a:avLst/>
            <a:gdLst/>
            <a:ahLst/>
            <a:rect l="l" t="t" r="r" b="b"/>
            <a:pathLst>
              <a:path w="11660" h="324">
                <a:moveTo>
                  <a:pt x="10120" y="14461"/>
                </a:moveTo>
                <a:cubicBezTo>
                  <a:pt x="10479" y="14470"/>
                  <a:pt x="10830" y="14527"/>
                  <a:pt x="11187" y="14536"/>
                </a:cubicBezTo>
                <a:cubicBezTo>
                  <a:pt x="11623" y="14546"/>
                  <a:pt x="12047" y="14518"/>
                  <a:pt x="12477" y="14486"/>
                </a:cubicBezTo>
                <a:cubicBezTo>
                  <a:pt x="12699" y="14470"/>
                  <a:pt x="12905" y="14461"/>
                  <a:pt x="13122" y="14436"/>
                </a:cubicBezTo>
                <a:cubicBezTo>
                  <a:pt x="13201" y="14427"/>
                  <a:pt x="13292" y="14417"/>
                  <a:pt x="13370" y="14412"/>
                </a:cubicBezTo>
                <a:cubicBezTo>
                  <a:pt x="13716" y="14391"/>
                  <a:pt x="14068" y="14427"/>
                  <a:pt x="14412" y="14387"/>
                </a:cubicBezTo>
                <a:cubicBezTo>
                  <a:pt x="14668" y="14357"/>
                  <a:pt x="14920" y="14299"/>
                  <a:pt x="15180" y="14288"/>
                </a:cubicBezTo>
                <a:cubicBezTo>
                  <a:pt x="15456" y="14276"/>
                  <a:pt x="15721" y="14244"/>
                  <a:pt x="15999" y="14238"/>
                </a:cubicBezTo>
                <a:cubicBezTo>
                  <a:pt x="16208" y="14234"/>
                  <a:pt x="16409" y="14215"/>
                  <a:pt x="16619" y="14213"/>
                </a:cubicBezTo>
                <a:cubicBezTo>
                  <a:pt x="17969" y="14201"/>
                  <a:pt x="19426" y="14082"/>
                  <a:pt x="20762" y="14238"/>
                </a:cubicBezTo>
                <a:cubicBezTo>
                  <a:pt x="20881" y="14252"/>
                  <a:pt x="21009" y="14280"/>
                  <a:pt x="21134" y="14288"/>
                </a:cubicBezTo>
                <a:cubicBezTo>
                  <a:pt x="21235" y="14294"/>
                  <a:pt x="21343" y="14301"/>
                  <a:pt x="21431" y="14312"/>
                </a:cubicBezTo>
                <a:cubicBezTo>
                  <a:pt x="21464" y="14316"/>
                  <a:pt x="21473" y="14332"/>
                  <a:pt x="21506" y="14337"/>
                </a:cubicBezTo>
                <a:cubicBezTo>
                  <a:pt x="21589" y="14351"/>
                  <a:pt x="21673" y="14350"/>
                  <a:pt x="21754" y="14362"/>
                </a:cubicBezTo>
                <a:cubicBezTo>
                  <a:pt x="21762" y="14362"/>
                  <a:pt x="21771" y="14362"/>
                  <a:pt x="21779" y="143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9880" y="5340240"/>
            <a:ext cx="4276800" cy="61920"/>
          </a:xfrm>
          <a:custGeom>
            <a:avLst/>
            <a:gdLst/>
            <a:ahLst/>
            <a:rect l="l" t="t" r="r" b="b"/>
            <a:pathLst>
              <a:path w="11882" h="175">
                <a:moveTo>
                  <a:pt x="2332" y="15007"/>
                </a:moveTo>
                <a:cubicBezTo>
                  <a:pt x="2480" y="14979"/>
                  <a:pt x="2232" y="14962"/>
                  <a:pt x="2629" y="14932"/>
                </a:cubicBezTo>
                <a:cubicBezTo>
                  <a:pt x="3808" y="14842"/>
                  <a:pt x="5044" y="14883"/>
                  <a:pt x="6226" y="14883"/>
                </a:cubicBezTo>
                <a:cubicBezTo>
                  <a:pt x="6372" y="14883"/>
                  <a:pt x="6506" y="14862"/>
                  <a:pt x="6648" y="14858"/>
                </a:cubicBezTo>
                <a:cubicBezTo>
                  <a:pt x="7210" y="14842"/>
                  <a:pt x="7773" y="14839"/>
                  <a:pt x="8334" y="14833"/>
                </a:cubicBezTo>
                <a:cubicBezTo>
                  <a:pt x="9398" y="14821"/>
                  <a:pt x="10477" y="14814"/>
                  <a:pt x="11534" y="14858"/>
                </a:cubicBezTo>
                <a:cubicBezTo>
                  <a:pt x="12126" y="14883"/>
                  <a:pt x="12736" y="14859"/>
                  <a:pt x="13320" y="14883"/>
                </a:cubicBezTo>
                <a:cubicBezTo>
                  <a:pt x="13439" y="14888"/>
                  <a:pt x="13562" y="14894"/>
                  <a:pt x="13667" y="14908"/>
                </a:cubicBezTo>
                <a:cubicBezTo>
                  <a:pt x="13727" y="14916"/>
                  <a:pt x="13760" y="14918"/>
                  <a:pt x="13816" y="14932"/>
                </a:cubicBezTo>
                <a:cubicBezTo>
                  <a:pt x="13864" y="14944"/>
                  <a:pt x="13910" y="14971"/>
                  <a:pt x="13965" y="14982"/>
                </a:cubicBezTo>
                <a:cubicBezTo>
                  <a:pt x="14004" y="14990"/>
                  <a:pt x="14028" y="15002"/>
                  <a:pt x="14064" y="15007"/>
                </a:cubicBezTo>
                <a:cubicBezTo>
                  <a:pt x="14113" y="15013"/>
                  <a:pt x="14165" y="14999"/>
                  <a:pt x="14213" y="150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0080" y="6107040"/>
            <a:ext cx="3268800" cy="206280"/>
          </a:xfrm>
          <a:custGeom>
            <a:avLst/>
            <a:gdLst/>
            <a:ahLst/>
            <a:rect l="l" t="t" r="r" b="b"/>
            <a:pathLst>
              <a:path w="9080" h="572">
                <a:moveTo>
                  <a:pt x="12526" y="17165"/>
                </a:moveTo>
                <a:cubicBezTo>
                  <a:pt x="12683" y="17181"/>
                  <a:pt x="12839" y="17195"/>
                  <a:pt x="12998" y="17214"/>
                </a:cubicBezTo>
                <a:cubicBezTo>
                  <a:pt x="13316" y="17251"/>
                  <a:pt x="13671" y="17271"/>
                  <a:pt x="13990" y="17239"/>
                </a:cubicBezTo>
                <a:cubicBezTo>
                  <a:pt x="14329" y="17204"/>
                  <a:pt x="14677" y="17122"/>
                  <a:pt x="15007" y="17090"/>
                </a:cubicBezTo>
                <a:cubicBezTo>
                  <a:pt x="15290" y="17063"/>
                  <a:pt x="15567" y="17053"/>
                  <a:pt x="15850" y="17016"/>
                </a:cubicBezTo>
                <a:cubicBezTo>
                  <a:pt x="16041" y="16991"/>
                  <a:pt x="16230" y="16976"/>
                  <a:pt x="16421" y="16966"/>
                </a:cubicBezTo>
                <a:cubicBezTo>
                  <a:pt x="16857" y="16943"/>
                  <a:pt x="17305" y="16971"/>
                  <a:pt x="17735" y="16991"/>
                </a:cubicBezTo>
                <a:cubicBezTo>
                  <a:pt x="17872" y="16997"/>
                  <a:pt x="17974" y="17008"/>
                  <a:pt x="18107" y="17041"/>
                </a:cubicBezTo>
                <a:cubicBezTo>
                  <a:pt x="18234" y="17073"/>
                  <a:pt x="18350" y="17097"/>
                  <a:pt x="18479" y="17115"/>
                </a:cubicBezTo>
                <a:cubicBezTo>
                  <a:pt x="18565" y="17127"/>
                  <a:pt x="18646" y="17140"/>
                  <a:pt x="18728" y="17165"/>
                </a:cubicBezTo>
                <a:cubicBezTo>
                  <a:pt x="18773" y="17179"/>
                  <a:pt x="18833" y="17205"/>
                  <a:pt x="18852" y="17214"/>
                </a:cubicBezTo>
                <a:cubicBezTo>
                  <a:pt x="18932" y="17253"/>
                  <a:pt x="19015" y="17329"/>
                  <a:pt x="19100" y="17363"/>
                </a:cubicBezTo>
                <a:cubicBezTo>
                  <a:pt x="19219" y="17410"/>
                  <a:pt x="19349" y="17450"/>
                  <a:pt x="19472" y="17487"/>
                </a:cubicBezTo>
                <a:cubicBezTo>
                  <a:pt x="19592" y="17524"/>
                  <a:pt x="19696" y="17533"/>
                  <a:pt x="19819" y="17537"/>
                </a:cubicBezTo>
                <a:cubicBezTo>
                  <a:pt x="20215" y="17551"/>
                  <a:pt x="20627" y="17554"/>
                  <a:pt x="21010" y="17487"/>
                </a:cubicBezTo>
                <a:cubicBezTo>
                  <a:pt x="21059" y="17478"/>
                  <a:pt x="21084" y="17466"/>
                  <a:pt x="21134" y="17462"/>
                </a:cubicBezTo>
                <a:cubicBezTo>
                  <a:pt x="21241" y="17454"/>
                  <a:pt x="21332" y="17454"/>
                  <a:pt x="21431" y="17438"/>
                </a:cubicBezTo>
                <a:cubicBezTo>
                  <a:pt x="21471" y="17432"/>
                  <a:pt x="21452" y="17418"/>
                  <a:pt x="21506" y="17413"/>
                </a:cubicBezTo>
                <a:cubicBezTo>
                  <a:pt x="21539" y="17410"/>
                  <a:pt x="21572" y="17416"/>
                  <a:pt x="21605" y="174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30680" y="6375240"/>
            <a:ext cx="1428480" cy="36720"/>
          </a:xfrm>
          <a:custGeom>
            <a:avLst/>
            <a:gdLst/>
            <a:ahLst/>
            <a:rect l="l" t="t" r="r" b="b"/>
            <a:pathLst>
              <a:path w="3970" h="100">
                <a:moveTo>
                  <a:pt x="7863" y="17735"/>
                </a:moveTo>
                <a:cubicBezTo>
                  <a:pt x="7896" y="17732"/>
                  <a:pt x="7905" y="17715"/>
                  <a:pt x="7938" y="17711"/>
                </a:cubicBezTo>
                <a:cubicBezTo>
                  <a:pt x="8596" y="17640"/>
                  <a:pt x="9708" y="17572"/>
                  <a:pt x="10344" y="17735"/>
                </a:cubicBezTo>
                <a:cubicBezTo>
                  <a:pt x="10399" y="17749"/>
                  <a:pt x="10449" y="17758"/>
                  <a:pt x="10517" y="17760"/>
                </a:cubicBezTo>
                <a:cubicBezTo>
                  <a:pt x="10787" y="17769"/>
                  <a:pt x="11076" y="17728"/>
                  <a:pt x="11336" y="17785"/>
                </a:cubicBezTo>
                <a:cubicBezTo>
                  <a:pt x="11443" y="17808"/>
                  <a:pt x="11543" y="17810"/>
                  <a:pt x="11658" y="17810"/>
                </a:cubicBezTo>
                <a:cubicBezTo>
                  <a:pt x="11716" y="17810"/>
                  <a:pt x="11774" y="17810"/>
                  <a:pt x="11832" y="1781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0000" y="6188040"/>
            <a:ext cx="1044720" cy="46080"/>
          </a:xfrm>
          <a:custGeom>
            <a:avLst/>
            <a:gdLst/>
            <a:ahLst/>
            <a:rect l="l" t="t" r="r" b="b"/>
            <a:pathLst>
              <a:path w="2904" h="125">
                <a:moveTo>
                  <a:pt x="3249" y="17239"/>
                </a:moveTo>
                <a:cubicBezTo>
                  <a:pt x="3306" y="17239"/>
                  <a:pt x="3327" y="17234"/>
                  <a:pt x="3373" y="17214"/>
                </a:cubicBezTo>
                <a:cubicBezTo>
                  <a:pt x="3421" y="17193"/>
                  <a:pt x="3463" y="17190"/>
                  <a:pt x="3522" y="17190"/>
                </a:cubicBezTo>
                <a:cubicBezTo>
                  <a:pt x="3625" y="17190"/>
                  <a:pt x="3719" y="17187"/>
                  <a:pt x="3820" y="17214"/>
                </a:cubicBezTo>
                <a:cubicBezTo>
                  <a:pt x="3985" y="17258"/>
                  <a:pt x="4125" y="17267"/>
                  <a:pt x="4291" y="17289"/>
                </a:cubicBezTo>
                <a:cubicBezTo>
                  <a:pt x="4434" y="17308"/>
                  <a:pt x="4567" y="17314"/>
                  <a:pt x="4713" y="17314"/>
                </a:cubicBezTo>
                <a:cubicBezTo>
                  <a:pt x="5193" y="17314"/>
                  <a:pt x="5672" y="17314"/>
                  <a:pt x="6152" y="173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r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inued his research to meet anticipated obje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lose to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n his lifetime, Charles Darwin gained international fame as an influential scientist examining controversial topics.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884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0914"/>
                </a:moveTo>
                <a:lnTo>
                  <a:pt x="3969" y="1091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he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ant torto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nch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8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1:21:52Z</dcterms:created>
  <dc:creator>sthobbsc</dc:creator>
  <dc:description/>
  <dc:language>en-US</dc:language>
  <cp:lastModifiedBy>sthobbsc</cp:lastModifiedBy>
  <dcterms:modified xsi:type="dcterms:W3CDTF">2007-01-15T14:33:37Z</dcterms:modified>
  <cp:revision>3</cp:revision>
  <dc:subject/>
  <dc:title>Do we really come from monkeys?</dc:title>
</cp:coreProperties>
</file>